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4B6-9CC0-435F-85CF-B438B926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552-A102-4E53-9394-05DEB070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D12-D421-4F7A-8193-29E75D20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6DC-FFB3-4BA6-8EE7-CB210046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C50D2-554E-422C-96F9-408D5D71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8B354-C5B2-4BD1-A4E2-0B3B14FD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07D9F-478D-4693-AAC6-1C61A530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1D5E4-0982-4D24-8F73-4C12E4D6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DAE8D-52E8-43D5-8E09-7AB090B8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062FA-17EB-460F-9FEB-6B6BBDC8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06AE4-C3E2-4867-8AA3-83A9A44B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679C-D586-4B0E-B0AA-E800F711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EBA4F-257E-4AD1-BE74-4EC63E93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7EC97-556F-45A0-ACEF-0163DF67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72980-67AD-418A-910C-C25A4BB1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D75C2-5727-4312-9425-79D95EA4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88C6E-793C-45AF-B2F4-2FD200E5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A4C-E7C8-4746-8ECE-AAE3FDF3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EDF-9549-43C2-A4B6-7C73F2FA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C24-1CD8-43CC-B51F-B622373F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6CE-AE46-4244-981E-1000BDEB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A52-098D-416E-ACFF-7ADA7615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7B23-14CB-4A62-9725-6A164735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FC3-83EA-401D-AE0D-4DD59D76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22A1-0D3F-4D97-BDE2-3B0947C51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5E28-280E-4D9D-B5D3-2351A6820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 Spelling Zo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us: Spelling and self asse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lling Assessmen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 ten Assessment words from the passage that you read in the RZ. You hear the word, hear it in a sentence, and then you spell it out. If you misspell the word, it becomes one of your study word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Spelling Clinic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learn words that you did not spell correctly. Once you spell everything correctly, you will move on to the Success Zon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Spelling Challeng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ust spell a word and if it is correct, you move onto the next word. You do this until you master the lis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Proofread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heck 3 sentences and proofread for spelling mistak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 SZ Progress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ck to see your overall progress in the SZ. It also tells you the number of words maste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. Success Zon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segment of the computer software topic C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repancy  Passag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read 2 or 3 versions of the passage from the RZ and choose the one that most accurately summarizes the original passa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Context Passag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passages that have some words missing. You fill in the blanks with the correct vocabula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Final Recor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make a final recording of the passage, do a self-check, and then, if not satisfied, a re-record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5. Wrap-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: Recap skills, strategies, and topics that we worked on throughout clas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TEN ASSIGN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STUDENT IS EXPECTED TO PARTICIPATE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2:18:33Z</dcterms:created>
  <dc:creator> </dc:creator>
  <dc:description/>
  <dc:language>en-US</dc:language>
  <cp:lastModifiedBy> </cp:lastModifiedBy>
  <dcterms:modified xsi:type="dcterms:W3CDTF">2007-09-13T15:42:02Z</dcterms:modified>
  <cp:revision>3</cp:revision>
  <dc:subject/>
  <dc:title>3. Spelling Zone</dc:title>
</cp:coreProperties>
</file>